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7088188" cy="102235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568E1-A99C-4E45-9DB8-7A1AC0688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7294D-CF12-4BF0-B328-90BB86BBF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2FE6F-AF26-4B92-B7AA-43F9D42E7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835FC-4FA4-49C5-A7E0-7BA9EEE04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025CE-9F8F-49BE-90A4-18013627E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AD2D2-9270-4BAE-92A0-7262F2E84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7EA5B-D9CB-4A1E-A7EB-CE0017E1B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4787B-AF06-43D9-8219-C52B3159F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CA414-A39F-411C-A4AD-0D12B285C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FFD17-E1E7-4506-B318-C3A9542D6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7B8BF-B38D-47EB-9A8D-0F0D4690A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EA757-C5B8-4A7C-8028-1049E02DD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67301-347A-4EFB-B052-7784245E7A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64480" cy="99061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52280" y="152280"/>
            <a:ext cx="6553440" cy="960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906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19240" y="-122400"/>
            <a:ext cx="838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7200" spc="-1" strike="noStrike">
                <a:solidFill>
                  <a:srgbClr val="000000"/>
                </a:solidFill>
                <a:latin typeface="Abaddon™"/>
              </a:rPr>
              <a:t>V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943440" y="-122400"/>
            <a:ext cx="838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7200" spc="-1" strike="noStrike">
                <a:solidFill>
                  <a:srgbClr val="000000"/>
                </a:solidFill>
                <a:latin typeface="Abaddon™"/>
              </a:rPr>
              <a:t>E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019240" y="62388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Abaddon™"/>
              </a:rPr>
              <a:t>LA MASCAR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90440" y="944640"/>
            <a:ext cx="87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200" spc="-1" strike="noStrike">
                <a:solidFill>
                  <a:srgbClr val="000000"/>
                </a:solidFill>
                <a:latin typeface="Times New Roman"/>
              </a:rPr>
              <a:t>Nom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440" y="1173240"/>
            <a:ext cx="952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200" spc="-1" strike="noStrike">
                <a:solidFill>
                  <a:srgbClr val="000000"/>
                </a:solidFill>
                <a:latin typeface="Times New Roman"/>
              </a:rPr>
              <a:t>Joueu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90440" y="1401840"/>
            <a:ext cx="12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200" spc="-1" strike="noStrike">
                <a:solidFill>
                  <a:srgbClr val="000000"/>
                </a:solidFill>
                <a:latin typeface="Times New Roman"/>
              </a:rPr>
              <a:t>Chroniqu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400480" y="944640"/>
            <a:ext cx="87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200" spc="-1" strike="noStrike">
                <a:solidFill>
                  <a:srgbClr val="000000"/>
                </a:solidFill>
                <a:latin typeface="Times New Roman"/>
              </a:rPr>
              <a:t>Natu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400480" y="1173240"/>
            <a:ext cx="125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200" spc="-1" strike="noStrike">
                <a:solidFill>
                  <a:srgbClr val="000000"/>
                </a:solidFill>
                <a:latin typeface="Times New Roman"/>
              </a:rPr>
              <a:t>Attitud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400480" y="1401840"/>
            <a:ext cx="118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200" spc="-1" strike="noStrike">
                <a:solidFill>
                  <a:srgbClr val="000000"/>
                </a:solidFill>
                <a:latin typeface="Times New Roman"/>
              </a:rPr>
              <a:t>Concep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610160" y="944640"/>
            <a:ext cx="87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200" spc="-1" strike="noStrike">
                <a:solidFill>
                  <a:srgbClr val="000000"/>
                </a:solidFill>
                <a:latin typeface="Times New Roman"/>
              </a:rPr>
              <a:t>Cla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610160" y="1173240"/>
            <a:ext cx="14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200" spc="-1" strike="noStrike">
                <a:solidFill>
                  <a:srgbClr val="000000"/>
                </a:solidFill>
                <a:latin typeface="Times New Roman"/>
              </a:rPr>
              <a:t>Généra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610160" y="1401840"/>
            <a:ext cx="952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200" spc="-1" strike="noStrike">
                <a:solidFill>
                  <a:srgbClr val="000000"/>
                </a:solidFill>
                <a:latin typeface="Times New Roman"/>
              </a:rPr>
              <a:t>Refug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33520" y="1657440"/>
            <a:ext cx="57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Abaddon™"/>
              </a:rPr>
              <a:t>ATTRIBU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90440" y="2133720"/>
            <a:ext cx="87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Times New Roman"/>
              </a:rPr>
              <a:t>For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440" y="2362320"/>
            <a:ext cx="952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Times New Roman"/>
              </a:rPr>
              <a:t>Dextérit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90440" y="2590920"/>
            <a:ext cx="12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Times New Roman"/>
              </a:rPr>
              <a:t>Vigue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00480" y="2133720"/>
            <a:ext cx="87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Times New Roman"/>
              </a:rPr>
              <a:t>Charis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00480" y="2362320"/>
            <a:ext cx="125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400480" y="2590920"/>
            <a:ext cx="118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Times New Roman"/>
              </a:rPr>
              <a:t>Appar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610160" y="2133720"/>
            <a:ext cx="952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Times New Roman"/>
              </a:rPr>
              <a:t>Percep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610160" y="2362320"/>
            <a:ext cx="14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Times New Roman"/>
              </a:rPr>
              <a:t>Intellig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610160" y="2590920"/>
            <a:ext cx="952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Times New Roman"/>
              </a:rPr>
              <a:t>Astu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9240" y="1905120"/>
            <a:ext cx="201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200" spc="-1" strike="noStrike">
                <a:solidFill>
                  <a:srgbClr val="000000"/>
                </a:solidFill>
                <a:latin typeface="Times New Roman"/>
              </a:rPr>
              <a:t>Physiq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428920" y="1905120"/>
            <a:ext cx="201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200" spc="-1" strike="noStrike">
                <a:solidFill>
                  <a:srgbClr val="000000"/>
                </a:solidFill>
                <a:latin typeface="Times New Roman"/>
              </a:rPr>
              <a:t>Soc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638600" y="1905120"/>
            <a:ext cx="201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200" spc="-1" strike="noStrike">
                <a:solidFill>
                  <a:srgbClr val="000000"/>
                </a:solidFill>
                <a:latin typeface="Times New Roman"/>
              </a:rPr>
              <a:t>M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447920" y="21337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ingdings 2"/>
                <a:ea typeface="Wingdings 2"/>
              </a:rPr>
              <a:t>˜™™™™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447920" y="23623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ingdings 2"/>
                <a:ea typeface="Wingdings 2"/>
              </a:rPr>
              <a:t>˜™™™™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447920" y="25909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ingdings 2"/>
                <a:ea typeface="Wingdings 2"/>
              </a:rPr>
              <a:t>˜™™™™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657600" y="25909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ingdings 2"/>
                <a:ea typeface="Wingdings 2"/>
              </a:rPr>
              <a:t>˜™™™™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657600" y="23623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ingdings 2"/>
                <a:ea typeface="Wingdings 2"/>
              </a:rPr>
              <a:t>˜™™™™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657600" y="21337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ingdings 2"/>
                <a:ea typeface="Wingdings 2"/>
              </a:rPr>
              <a:t>˜™™™™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867280" y="25909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ingdings 2"/>
                <a:ea typeface="Wingdings 2"/>
              </a:rPr>
              <a:t>˜™™™™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867280" y="23623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ingdings 2"/>
                <a:ea typeface="Wingdings 2"/>
              </a:rPr>
              <a:t>˜™™™™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67280" y="21337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ingdings 2"/>
                <a:ea typeface="Wingdings 2"/>
              </a:rPr>
              <a:t>˜™™™™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33520" y="2833560"/>
            <a:ext cx="57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Abaddon™"/>
              </a:rPr>
              <a:t>CAPACI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440" y="3306600"/>
            <a:ext cx="87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Times New Roman"/>
              </a:rPr>
              <a:t>Athlétis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0440" y="3535200"/>
            <a:ext cx="952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Times New Roman"/>
              </a:rPr>
              <a:t>Bagar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90440" y="3763800"/>
            <a:ext cx="12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Times New Roman"/>
              </a:rPr>
              <a:t>Command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400480" y="3306600"/>
            <a:ext cx="102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Times New Roman"/>
              </a:rPr>
              <a:t>Animau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400480" y="3535200"/>
            <a:ext cx="125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Times New Roman"/>
              </a:rPr>
              <a:t>Artisan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400480" y="3763800"/>
            <a:ext cx="118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Times New Roman"/>
              </a:rPr>
              <a:t>Armes à fe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610160" y="3306600"/>
            <a:ext cx="125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Times New Roman"/>
              </a:rPr>
              <a:t>Dro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610160" y="3535200"/>
            <a:ext cx="14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Times New Roman"/>
              </a:rPr>
              <a:t>Eru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0160" y="3763800"/>
            <a:ext cx="125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Times New Roman"/>
              </a:rPr>
              <a:t>Fina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19240" y="3078000"/>
            <a:ext cx="201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200" spc="-1" strike="noStrike">
                <a:solidFill>
                  <a:srgbClr val="000000"/>
                </a:solidFill>
                <a:latin typeface="Times New Roman"/>
              </a:rPr>
              <a:t>Tal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428920" y="3078000"/>
            <a:ext cx="201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200" spc="-1" strike="noStrike">
                <a:solidFill>
                  <a:srgbClr val="000000"/>
                </a:solidFill>
                <a:latin typeface="Times New Roman"/>
              </a:rPr>
              <a:t>Compét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638600" y="3078000"/>
            <a:ext cx="201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200" spc="-1" strike="noStrike">
                <a:solidFill>
                  <a:srgbClr val="000000"/>
                </a:solidFill>
                <a:latin typeface="Times New Roman"/>
              </a:rPr>
              <a:t>Connaissa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447920" y="3306600"/>
            <a:ext cx="91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ingdings 2"/>
                <a:ea typeface="Wingdings 2"/>
              </a:rPr>
              <a:t>™™™™™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447920" y="3535200"/>
            <a:ext cx="91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ingdings 2"/>
                <a:ea typeface="Wingdings 2"/>
              </a:rPr>
              <a:t>™™™™™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447920" y="3763800"/>
            <a:ext cx="91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ingdings 2"/>
                <a:ea typeface="Wingdings 2"/>
              </a:rPr>
              <a:t>™™™™™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657600" y="3763800"/>
            <a:ext cx="91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ingdings 2"/>
                <a:ea typeface="Wingdings 2"/>
              </a:rPr>
              <a:t>™™™™™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657600" y="3535200"/>
            <a:ext cx="91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ingdings 2"/>
                <a:ea typeface="Wingdings 2"/>
              </a:rPr>
              <a:t>™™™™™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657600" y="3306600"/>
            <a:ext cx="91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ingdings 2"/>
                <a:ea typeface="Wingdings 2"/>
              </a:rPr>
              <a:t>™™™™™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867280" y="3763800"/>
            <a:ext cx="91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ingdings 2"/>
                <a:ea typeface="Wingdings 2"/>
              </a:rPr>
              <a:t>™™™™™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67280" y="3535200"/>
            <a:ext cx="91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ingdings 2"/>
                <a:ea typeface="Wingdings 2"/>
              </a:rPr>
              <a:t>™™™™™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867280" y="3306600"/>
            <a:ext cx="91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ingdings 2"/>
                <a:ea typeface="Wingdings 2"/>
              </a:rPr>
              <a:t>™™™™™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90440" y="4221000"/>
            <a:ext cx="133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Times New Roman"/>
              </a:rPr>
              <a:t>Empathi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90440" y="4449600"/>
            <a:ext cx="133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Times New Roman"/>
              </a:rPr>
              <a:t>Esqu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90440" y="3992400"/>
            <a:ext cx="1486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Times New Roman"/>
              </a:rPr>
              <a:t>Conn. de la 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90440" y="4678200"/>
            <a:ext cx="12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Times New Roman"/>
              </a:rPr>
              <a:t>Expre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440" y="4906800"/>
            <a:ext cx="12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Times New Roman"/>
              </a:rPr>
              <a:t>Intimid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90440" y="5364000"/>
            <a:ext cx="12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Times New Roman"/>
              </a:rPr>
              <a:t>Vigil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447920" y="3992400"/>
            <a:ext cx="91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ingdings 2"/>
                <a:ea typeface="Wingdings 2"/>
              </a:rPr>
              <a:t>™™™™™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447920" y="4221000"/>
            <a:ext cx="91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ingdings 2"/>
                <a:ea typeface="Wingdings 2"/>
              </a:rPr>
              <a:t>™™™™™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447920" y="4449600"/>
            <a:ext cx="91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ingdings 2"/>
                <a:ea typeface="Wingdings 2"/>
              </a:rPr>
              <a:t>™™™™™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447920" y="4678200"/>
            <a:ext cx="91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ingdings 2"/>
                <a:ea typeface="Wingdings 2"/>
              </a:rPr>
              <a:t>™™™™™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447920" y="4906800"/>
            <a:ext cx="91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ingdings 2"/>
                <a:ea typeface="Wingdings 2"/>
              </a:rPr>
              <a:t>™™™™™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447920" y="5135400"/>
            <a:ext cx="91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ingdings 2"/>
                <a:ea typeface="Wingdings 2"/>
              </a:rPr>
              <a:t>™™™™™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447920" y="5364000"/>
            <a:ext cx="91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ingdings 2"/>
                <a:ea typeface="Wingdings 2"/>
              </a:rPr>
              <a:t>™™™™™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657600" y="3992400"/>
            <a:ext cx="91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ingdings 2"/>
                <a:ea typeface="Wingdings 2"/>
              </a:rPr>
              <a:t>™™™™™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657600" y="4221000"/>
            <a:ext cx="91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ingdings 2"/>
                <a:ea typeface="Wingdings 2"/>
              </a:rPr>
              <a:t>™™™™™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4449600"/>
            <a:ext cx="91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ingdings 2"/>
                <a:ea typeface="Wingdings 2"/>
              </a:rPr>
              <a:t>™™™™™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7600" y="4678200"/>
            <a:ext cx="91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ingdings 2"/>
                <a:ea typeface="Wingdings 2"/>
              </a:rPr>
              <a:t>™™™™™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657600" y="4906800"/>
            <a:ext cx="91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ingdings 2"/>
                <a:ea typeface="Wingdings 2"/>
              </a:rPr>
              <a:t>™™™™™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657600" y="5135400"/>
            <a:ext cx="91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ingdings 2"/>
                <a:ea typeface="Wingdings 2"/>
              </a:rPr>
              <a:t>™™™™™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657600" y="5364000"/>
            <a:ext cx="91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ingdings 2"/>
                <a:ea typeface="Wingdings 2"/>
              </a:rPr>
              <a:t>™™™™™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867280" y="3992400"/>
            <a:ext cx="91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ingdings 2"/>
                <a:ea typeface="Wingdings 2"/>
              </a:rPr>
              <a:t>™™™™™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867280" y="4221000"/>
            <a:ext cx="91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ingdings 2"/>
                <a:ea typeface="Wingdings 2"/>
              </a:rPr>
              <a:t>™™™™™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867280" y="4449600"/>
            <a:ext cx="91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ingdings 2"/>
                <a:ea typeface="Wingdings 2"/>
              </a:rPr>
              <a:t>™™™™™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867280" y="4678200"/>
            <a:ext cx="91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ingdings 2"/>
                <a:ea typeface="Wingdings 2"/>
              </a:rPr>
              <a:t>™™™™™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867280" y="4906800"/>
            <a:ext cx="91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ingdings 2"/>
                <a:ea typeface="Wingdings 2"/>
              </a:rPr>
              <a:t>™™™™™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867280" y="5135400"/>
            <a:ext cx="91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ingdings 2"/>
                <a:ea typeface="Wingdings 2"/>
              </a:rPr>
              <a:t>™™™™™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867280" y="5364000"/>
            <a:ext cx="91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ingdings 2"/>
                <a:ea typeface="Wingdings 2"/>
              </a:rPr>
              <a:t>™™™™™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400480" y="3992400"/>
            <a:ext cx="118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Times New Roman"/>
              </a:rPr>
              <a:t>Condu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400480" y="4221000"/>
            <a:ext cx="118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Times New Roman"/>
              </a:rPr>
              <a:t>Etiquet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400480" y="4449600"/>
            <a:ext cx="118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Times New Roman"/>
              </a:rPr>
              <a:t>Furtivit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400480" y="4678200"/>
            <a:ext cx="118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Times New Roman"/>
              </a:rPr>
              <a:t>Mêlé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400480" y="4906800"/>
            <a:ext cx="118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Times New Roman"/>
              </a:rPr>
              <a:t>Représen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400480" y="5135400"/>
            <a:ext cx="118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Times New Roman"/>
              </a:rPr>
              <a:t>Sécurit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400480" y="5364000"/>
            <a:ext cx="118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Times New Roman"/>
              </a:rPr>
              <a:t>Survi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610160" y="3992400"/>
            <a:ext cx="125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Times New Roman"/>
              </a:rPr>
              <a:t>Informatiq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610160" y="4221000"/>
            <a:ext cx="125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Times New Roman"/>
              </a:rPr>
              <a:t>Investig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610160" y="4449600"/>
            <a:ext cx="125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Times New Roman"/>
              </a:rPr>
              <a:t>Linguistiq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10160" y="4678200"/>
            <a:ext cx="125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Times New Roman"/>
              </a:rPr>
              <a:t>Médec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610160" y="4906800"/>
            <a:ext cx="125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Times New Roman"/>
              </a:rPr>
              <a:t>Occultis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610160" y="5135400"/>
            <a:ext cx="125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Times New Roman"/>
              </a:rPr>
              <a:t>Politiq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610160" y="5364000"/>
            <a:ext cx="125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Times New Roman"/>
              </a:rPr>
              <a:t>Sci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33520" y="5619600"/>
            <a:ext cx="57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Abaddon™"/>
              </a:rPr>
              <a:t>AVANTA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90440" y="6095880"/>
            <a:ext cx="12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Times New Roman"/>
              </a:rPr>
              <a:t>. . . . . . . . . . . 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648320" y="611496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000" spc="-1" strike="noStrike">
                <a:solidFill>
                  <a:srgbClr val="000000"/>
                </a:solidFill>
                <a:latin typeface="Times New Roman"/>
              </a:rPr>
              <a:t>Conscience/Convi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19240" y="5867280"/>
            <a:ext cx="201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200" spc="-1" strike="noStrike">
                <a:solidFill>
                  <a:srgbClr val="000000"/>
                </a:solidFill>
                <a:latin typeface="Times New Roman"/>
              </a:rPr>
              <a:t>Historiq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428920" y="5867280"/>
            <a:ext cx="201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200" spc="-1" strike="noStrike">
                <a:solidFill>
                  <a:srgbClr val="000000"/>
                </a:solidFill>
                <a:latin typeface="Times New Roman"/>
              </a:rPr>
              <a:t>Discip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638600" y="5867280"/>
            <a:ext cx="201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200" spc="-1" strike="noStrike">
                <a:solidFill>
                  <a:srgbClr val="000000"/>
                </a:solidFill>
                <a:latin typeface="Times New Roman"/>
              </a:rPr>
              <a:t>Ver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447920" y="6095880"/>
            <a:ext cx="91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ingdings 2"/>
                <a:ea typeface="Wingdings 2"/>
              </a:rPr>
              <a:t>™™™™™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867280" y="609588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ingdings 2"/>
                <a:ea typeface="Wingdings 2"/>
              </a:rPr>
              <a:t>˜™™™™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447920" y="6324480"/>
            <a:ext cx="91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ingdings 2"/>
                <a:ea typeface="Wingdings 2"/>
              </a:rPr>
              <a:t>™™™™™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90440" y="6324480"/>
            <a:ext cx="12574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Times New Roman"/>
              </a:rPr>
              <a:t>. . . . . . . . . . . 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90440" y="6553080"/>
            <a:ext cx="133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Times New Roman"/>
              </a:rPr>
              <a:t>. . . . . . . . . . . 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6553080"/>
            <a:ext cx="91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ingdings 2"/>
                <a:ea typeface="Wingdings 2"/>
              </a:rPr>
              <a:t>™™™™™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90440" y="6781680"/>
            <a:ext cx="14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Times New Roman"/>
              </a:rPr>
              <a:t>. . . . . . . . . . . 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90440" y="7010280"/>
            <a:ext cx="12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Times New Roman"/>
              </a:rPr>
              <a:t>. . . . . . . . . . . 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447920" y="6781680"/>
            <a:ext cx="91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ingdings 2"/>
                <a:ea typeface="Wingdings 2"/>
              </a:rPr>
              <a:t>™™™™™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447920" y="7010280"/>
            <a:ext cx="91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ingdings 2"/>
                <a:ea typeface="Wingdings 2"/>
              </a:rPr>
              <a:t>™™™™™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400480" y="6324480"/>
            <a:ext cx="125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Times New Roman"/>
              </a:rPr>
              <a:t>. . . . . . . . . . . 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657600" y="6324480"/>
            <a:ext cx="91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ingdings 2"/>
                <a:ea typeface="Wingdings 2"/>
              </a:rPr>
              <a:t>™™™™™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400480" y="6095880"/>
            <a:ext cx="125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Times New Roman"/>
              </a:rPr>
              <a:t>. . . . . . . . . . . 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400480" y="6553080"/>
            <a:ext cx="133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Times New Roman"/>
              </a:rPr>
              <a:t>. . . . . . . . . . . 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657600" y="6095880"/>
            <a:ext cx="91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ingdings 2"/>
                <a:ea typeface="Wingdings 2"/>
              </a:rPr>
              <a:t>™™™™™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657600" y="6553080"/>
            <a:ext cx="91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ingdings 2"/>
                <a:ea typeface="Wingdings 2"/>
              </a:rPr>
              <a:t>™™™™™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400480" y="6781680"/>
            <a:ext cx="140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Times New Roman"/>
              </a:rPr>
              <a:t>. . . . . . . . . . . 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00480" y="7010280"/>
            <a:ext cx="125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Times New Roman"/>
              </a:rPr>
              <a:t>. . . . . . . . . . . 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657600" y="6781680"/>
            <a:ext cx="91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ingdings 2"/>
                <a:ea typeface="Wingdings 2"/>
              </a:rPr>
              <a:t>™™™™™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657600" y="7010280"/>
            <a:ext cx="91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ingdings 2"/>
                <a:ea typeface="Wingdings 2"/>
              </a:rPr>
              <a:t>™™™™™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867280" y="655308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ingdings 2"/>
                <a:ea typeface="Wingdings 2"/>
              </a:rPr>
              <a:t>˜™™™™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67280" y="701028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ingdings 2"/>
                <a:ea typeface="Wingdings 2"/>
              </a:rPr>
              <a:t>˜™™™™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648320" y="6572160"/>
            <a:ext cx="1447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000" spc="-1" strike="noStrike">
                <a:solidFill>
                  <a:srgbClr val="000000"/>
                </a:solidFill>
                <a:latin typeface="Times New Roman"/>
              </a:rPr>
              <a:t>Maîtrise de Soi/Instinc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610160" y="7010280"/>
            <a:ext cx="125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Times New Roman"/>
              </a:rPr>
              <a:t>Cour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19240" y="7497720"/>
            <a:ext cx="201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200" spc="-1" strike="noStrike">
                <a:solidFill>
                  <a:srgbClr val="000000"/>
                </a:solidFill>
                <a:latin typeface="Times New Roman"/>
              </a:rPr>
              <a:t>Atouts &amp; Handica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90440" y="7696080"/>
            <a:ext cx="209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Times New Roman"/>
              </a:rPr>
              <a:t>. . . . . . . . . . . . . . . . . . . . . . . . 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90440" y="7924680"/>
            <a:ext cx="209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Times New Roman"/>
              </a:rPr>
              <a:t>. . . . . . . . . . . . . . . . . . . . . . . . 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0440" y="8153280"/>
            <a:ext cx="209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Times New Roman"/>
              </a:rPr>
              <a:t>. . . . . . . . . . . . . . . . . . . . . . . . 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90440" y="8381880"/>
            <a:ext cx="209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Times New Roman"/>
              </a:rPr>
              <a:t>. . . . . . . . . . . . . . . . . . . . . . . . 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90440" y="8610480"/>
            <a:ext cx="209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Times New Roman"/>
              </a:rPr>
              <a:t>. . . . . . . . . . . . . . . . . . . . . . . . 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90440" y="8839080"/>
            <a:ext cx="209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Times New Roman"/>
              </a:rPr>
              <a:t>. . . . . . . . . . . . . . . . . . . . . . . . 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90440" y="9067680"/>
            <a:ext cx="209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Times New Roman"/>
              </a:rPr>
              <a:t>. . . . . . . . . . . . . . . . . . . . . . . . 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90440" y="9296280"/>
            <a:ext cx="209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Times New Roman"/>
              </a:rPr>
              <a:t>. . . . . . . . . . . . . . . . . . . . . . . . 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428920" y="7497720"/>
            <a:ext cx="201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200" spc="-1" strike="noStrike">
                <a:solidFill>
                  <a:srgbClr val="000000"/>
                </a:solidFill>
                <a:latin typeface="Times New Roman"/>
              </a:rPr>
              <a:t>Humanité / Voi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400480" y="7696080"/>
            <a:ext cx="20952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Times New Roman"/>
              </a:rPr>
              <a:t>. . . . . . . . . . . . . . . . . . . . . . . . 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Wingdings 2"/>
                <a:ea typeface="Wingdings 2"/>
              </a:rPr>
              <a:t>™™™™™™™™™™™™™™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400480" y="8153280"/>
            <a:ext cx="20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200" spc="-1" strike="noStrike">
                <a:solidFill>
                  <a:srgbClr val="000000"/>
                </a:solidFill>
                <a:latin typeface="Times New Roman"/>
              </a:rPr>
              <a:t>Volont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438280" y="8381880"/>
            <a:ext cx="20955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Wingdings 2"/>
                <a:ea typeface="Wingdings 2"/>
              </a:rPr>
              <a:t>™™™™™™™™™™™™™™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Wingdings 2"/>
                <a:ea typeface="Wingdings 2"/>
              </a:rPr>
              <a:t>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400480" y="8839080"/>
            <a:ext cx="20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200" spc="-1" strike="noStrike">
                <a:solidFill>
                  <a:srgbClr val="000000"/>
                </a:solidFill>
                <a:latin typeface="Times New Roman"/>
              </a:rPr>
              <a:t>Réserve de Sa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438280" y="9067680"/>
            <a:ext cx="20955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Wingdings 2"/>
                <a:ea typeface="Wingdings 2"/>
              </a:rPr>
              <a:t>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Wingdings 2"/>
                <a:ea typeface="Wingdings 2"/>
              </a:rPr>
              <a:t>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Wingdings 2"/>
                <a:ea typeface="Wingdings 2"/>
              </a:rPr>
              <a:t>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610160" y="7848720"/>
            <a:ext cx="125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Times New Roman"/>
              </a:rPr>
              <a:t>Cont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610160" y="8077320"/>
            <a:ext cx="14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Times New Roman"/>
              </a:rPr>
              <a:t>Blessure légè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610160" y="8305920"/>
            <a:ext cx="133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Times New Roman"/>
              </a:rPr>
              <a:t>Blessure moyen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791320" y="87631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ingdings 2"/>
                <a:ea typeface="Wingdings 2"/>
              </a:rPr>
              <a:t>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791320" y="85345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ingdings 2"/>
                <a:ea typeface="Wingdings 2"/>
              </a:rPr>
              <a:t>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791320" y="83059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ingdings 2"/>
                <a:ea typeface="Wingdings 2"/>
              </a:rPr>
              <a:t>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791320" y="89917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ingdings 2"/>
                <a:ea typeface="Wingdings 2"/>
              </a:rPr>
              <a:t>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91320" y="92203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ingdings 2"/>
                <a:ea typeface="Wingdings 2"/>
              </a:rPr>
              <a:t>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610160" y="8534520"/>
            <a:ext cx="125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Times New Roman"/>
              </a:rPr>
              <a:t>Blessure gra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610160" y="8763120"/>
            <a:ext cx="125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Times New Roman"/>
              </a:rPr>
              <a:t>Handica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638600" y="7497720"/>
            <a:ext cx="201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200" spc="-1" strike="noStrike">
                <a:solidFill>
                  <a:srgbClr val="000000"/>
                </a:solidFill>
                <a:latin typeface="Times New Roman"/>
              </a:rPr>
              <a:t>Sant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610160" y="8991720"/>
            <a:ext cx="125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Times New Roman"/>
              </a:rPr>
              <a:t>Infirmit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610160" y="9220320"/>
            <a:ext cx="125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Times New Roman"/>
              </a:rPr>
              <a:t>Invalidit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91320" y="80773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ingdings 2"/>
                <a:ea typeface="Wingdings 2"/>
              </a:rPr>
              <a:t>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91320" y="78487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ingdings 2"/>
                <a:ea typeface="Wingdings 2"/>
              </a:rPr>
              <a:t>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019920" y="80773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019920" y="83059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019920" y="85345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Times New Roman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19920" y="87631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Times New Roman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019920" y="89917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Times New Roman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90440" y="5135400"/>
            <a:ext cx="1562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Times New Roman"/>
              </a:rPr>
              <a:t>Subterfu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038480" y="1866960"/>
            <a:ext cx="2438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diamond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0880" y="1866960"/>
            <a:ext cx="24386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lg" type="diamond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011480" y="3048120"/>
            <a:ext cx="246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diamond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80880" y="3048120"/>
            <a:ext cx="24656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lg" type="diamond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065480" y="5829480"/>
            <a:ext cx="2411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diamond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80880" y="5829480"/>
            <a:ext cx="24116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lg" type="diamond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0880" y="7467480"/>
            <a:ext cx="60962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lg" type="diamond" w="sm"/>
            <a:tailEnd len="lg" type="diamond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533680" y="76320"/>
            <a:ext cx="1752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000" spc="-1" strike="noStrike">
                <a:solidFill>
                  <a:srgbClr val="000000"/>
                </a:solidFill>
                <a:latin typeface="Abaddon™"/>
              </a:rPr>
              <a:t>AMPI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3T07:44:49Z</dcterms:created>
  <dc:creator>Jean-Pierre Lheureux</dc:creator>
  <dc:description/>
  <dc:language>en-US</dc:language>
  <cp:lastModifiedBy>Jean-Pierre Lheureux</cp:lastModifiedBy>
  <dcterms:modified xsi:type="dcterms:W3CDTF">2003-03-21T16:18:16Z</dcterms:modified>
  <cp:revision>49</cp:revision>
  <dc:subject/>
  <dc:title>PowerPoint Presentation</dc:title>
</cp:coreProperties>
</file>