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ABF-BECE-47F7-B88A-8299CF72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EA3-8DA8-4348-932A-DD4B7C62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0BF-6D1C-406B-BBD9-7B25DA87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6C6-7E40-47A8-929D-ED12B4E6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ECA-FD80-4BBA-9EBB-7ABFB2F2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BDB-C21F-445E-8804-80F3E8E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2E3-19A4-48B2-B9A5-FE8372E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197-B751-4AB1-9D79-A0576F1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391-6758-4361-ADDA-F8882D53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585-B4EB-4C87-979D-B60227E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9D8-CE63-4382-90A2-FA4EF06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4A8-2CCD-4447-B692-74C63D5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9CC-16E2-4AE2-8E3F-4A188AFBC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tacombe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960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32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000000"/>
                </a:solidFill>
                <a:latin typeface="GoudyMedieval"/>
              </a:rPr>
              <a:t>VAMPI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34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L’AGE DES TENE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44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11732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Joueu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440" y="140184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hroni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048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0480" y="117324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tit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140184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016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10160" y="11732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Géné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14018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fu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66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ATTRIB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3623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exté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25909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048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har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0480" y="2362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59092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21337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0160" y="2362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0160" y="25909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st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24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2892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860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8669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8669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84796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CAPAC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440" y="330660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3535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aga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440" y="3763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é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0480" y="330660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nim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0480" y="3535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ch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00480" y="3763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tisa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306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3535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ru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0160" y="3763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24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T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892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pé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860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42210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mpat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40" y="44496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squ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399240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mand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440" y="46782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440" y="4906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arc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40" y="53640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i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00480" y="3992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qu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4221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ti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44496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ur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0480" y="4678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erboris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4906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êl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00480" y="5135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u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0480" y="5364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r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3992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inguis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4221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éde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0160" y="4449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Occu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4678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49068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agesse popu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0160" y="5135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10160" y="5364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énéc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6293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440" y="60958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6114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Conscience/Conv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892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3860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er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6095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440" y="63244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44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67816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440" y="70102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00480" y="63244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60958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0048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678168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0048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0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65721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Maîtrise de Soi/Instin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016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24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utres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2892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00480" y="7696080"/>
            <a:ext cx="209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00480" y="81532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83818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0480" y="88390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éserve de S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90676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10160" y="7848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t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0160" y="8077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lég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83059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mo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9220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0160" y="8534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87631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3860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10160" y="8991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irm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10160" y="9220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ali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7848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440" y="513540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bterf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048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048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829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829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467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440" y="76960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7696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7924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440" y="79246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440" y="81532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8153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440" y="8381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440" y="86104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8381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8610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240" y="88390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bat (ar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440" y="90216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440" y="92502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440" y="94788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5:56:02Z</dcterms:created>
  <dc:creator>Jean-Pierre Lheureux</dc:creator>
  <dc:description/>
  <dc:language>en-US</dc:language>
  <cp:lastModifiedBy>Jean-Pierre Lheureux</cp:lastModifiedBy>
  <dcterms:modified xsi:type="dcterms:W3CDTF">2003-03-26T08:16:32Z</dcterms:modified>
  <cp:revision>10</cp:revision>
  <dc:subject/>
  <dc:title>PowerPoint Presentation</dc:title>
</cp:coreProperties>
</file>