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7D51-7DE8-432D-9AD2-DE53DBC6F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9E09-4F81-4459-9D38-B81F22998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C72B-188C-4B01-BF35-FB7BA3769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CA69-6220-42DE-A701-7BAA1AE35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0A2E-BFAF-4053-8FFB-CEC314E20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27EE-FE70-450D-9299-C5508ED27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8FEF-55A0-4D61-B2FF-C745216FC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88E0-255B-41B0-801C-EEFAAE881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17BF-2DC4-4D5E-80BB-2C9B38E3C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218E-2E8E-4CAB-BE31-F9B6087E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56C3-4B37-4B86-889D-0FA88ACC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2823-B7D3-43DC-9096-287AF893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D078E-CD69-44DF-9985-EB5F05F901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91120" y="2590920"/>
            <a:ext cx="266688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Short Hand"/>
              </a:rPr>
              <a:t>EQUIP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733920" y="533520"/>
            <a:ext cx="3124080" cy="2057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352680"/>
            <a:ext cx="243828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Short Hand"/>
              </a:rPr>
              <a:t>POINTS D ’ENERG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-6192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Zombie"/>
              </a:rPr>
              <a:t>THE RETURN OF THE NOT TOTALLY D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533520"/>
            <a:ext cx="373392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Short Hand"/>
              </a:rPr>
              <a:t>CARACTERISTIQUES DU PERSONN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906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533520"/>
            <a:ext cx="3733920" cy="160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8683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hort Hand"/>
              </a:rPr>
              <a:t>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1066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969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hort Hand"/>
              </a:rPr>
              <a:t>A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523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752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3255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hort Hand"/>
              </a:rPr>
              <a:t>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5541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hort Hand"/>
              </a:rPr>
              <a:t>P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43000" y="8683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hort Hand"/>
              </a:rPr>
              <a:t>D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52480" y="1066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10969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hort Hand"/>
              </a:rPr>
              <a:t>TA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5248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52480" y="1523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52480" y="1752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143000" y="13255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hort Hand"/>
              </a:rPr>
              <a:t>Idé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43000" y="1554120"/>
            <a:ext cx="6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hort Hand"/>
              </a:rPr>
              <a:t>Ch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0" y="8683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hort Hand"/>
              </a:rPr>
              <a:t>C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95480" y="1066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05120" y="13255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hort Hand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05120" y="15541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hort Hand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782720"/>
            <a:ext cx="144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hort Hand"/>
              </a:rPr>
              <a:t>Bonus aux dom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447920" y="1981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133720"/>
            <a:ext cx="243828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hort Hand"/>
              </a:rPr>
              <a:t>POINTS DE V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438280" y="1219320"/>
            <a:ext cx="1752840" cy="3352680"/>
          </a:xfrm>
          <a:prstGeom prst="rect">
            <a:avLst/>
          </a:prstGeom>
          <a:solidFill>
            <a:srgbClr val="ffffff"/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2438280"/>
            <a:ext cx="3808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2438280"/>
            <a:ext cx="3808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2438280"/>
            <a:ext cx="3808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2438280"/>
            <a:ext cx="3808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4400" y="2438280"/>
            <a:ext cx="3808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143000" y="2438280"/>
            <a:ext cx="3808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71600" y="2438280"/>
            <a:ext cx="3808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438280"/>
            <a:ext cx="3808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28800" y="2438280"/>
            <a:ext cx="3808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057400" y="2438280"/>
            <a:ext cx="3808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3657600"/>
            <a:ext cx="3808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3657600"/>
            <a:ext cx="3808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3657600"/>
            <a:ext cx="3808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3657600"/>
            <a:ext cx="3808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14400" y="3657600"/>
            <a:ext cx="3808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3657600"/>
            <a:ext cx="3808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371600" y="3657600"/>
            <a:ext cx="3808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00200" y="3657600"/>
            <a:ext cx="3808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828800" y="3657600"/>
            <a:ext cx="3808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57400" y="3657600"/>
            <a:ext cx="3808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733920" y="533520"/>
            <a:ext cx="312408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Short Hand"/>
              </a:rPr>
              <a:t>DESCRIPTION DU PERSONN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33920" y="533520"/>
            <a:ext cx="0" cy="3045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733920" y="868320"/>
            <a:ext cx="533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No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91120" y="106668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191120" y="10969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Ag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648320" y="12952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791320" y="10969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Sex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248520" y="12952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10080" y="15238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91120" y="132552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Lieu de naissan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17524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562720" y="19810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91120" y="1554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Race / ethni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91120" y="178272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Diplôme(s) / Stat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267080" y="22096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24382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91120" y="223992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Profess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648320"/>
            <a:ext cx="685800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Short Hand"/>
              </a:rPr>
              <a:t>COMPETENCES DU PERSONN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952880"/>
            <a:ext cx="1981080" cy="32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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Art/Artisanat(05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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Athlétisme (15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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Bibliothèque (25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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Bricolage (1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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Cascade (1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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Chercher (2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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Commerce (2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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Comptabilité (0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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Conduire (20%) . . . . . . .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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Connais. de la rue (1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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Culture générale (2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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Déguisement (1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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Discrétion (15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0" y="4952880"/>
            <a:ext cx="1981080" cy="32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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Droit (1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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Equitation (2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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Esquiver (25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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Histoire/géographie (1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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Informatique (2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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Langue natale (8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Langue étrangè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 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. . . . . . . . . . . . . . . . . . .  (0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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Leadership (15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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Médecine (0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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Navigation (0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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Orientation (15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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Paranormal (2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4952880"/>
            <a:ext cx="1981080" cy="32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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Persuasion (15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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Piloter (00%) . . . . . . .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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Plongée (0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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Premiers soins (3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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Renseignements (2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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Sabotage (05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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Sagacité (2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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Sciences appliquées (0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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Sciences pures (0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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Sciences sociales (0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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Serrurerie (15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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Survie (1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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Vigilance (2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76520" y="4952880"/>
            <a:ext cx="609480" cy="29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62520" y="4952880"/>
            <a:ext cx="609480" cy="29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248520" y="4952880"/>
            <a:ext cx="609480" cy="29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4648320"/>
            <a:ext cx="6858000" cy="3276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0" y="4952880"/>
            <a:ext cx="0" cy="297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4952880"/>
            <a:ext cx="0" cy="297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7924680"/>
            <a:ext cx="685800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Short Hand"/>
              </a:rPr>
              <a:t>COMBAT &amp; ARM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-208080" y="8459640"/>
            <a:ext cx="1953360" cy="13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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Arts martiaux (2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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Bagarre (5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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. . . . . . . . . . . . . . . . . .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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. . . . . . . . . . . . . . . . . .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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. . . . . . . . . . . . . . . . . .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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. . . . . . . . . . . . . . . . . .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47920" y="8459640"/>
            <a:ext cx="914400" cy="13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7924680"/>
            <a:ext cx="6858000" cy="19814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267080" y="31240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67080" y="33526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35812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267080" y="38098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40384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67080" y="42670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4956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47920" y="8183520"/>
            <a:ext cx="914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hort Hand"/>
              </a:rPr>
              <a:t>Compét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71800" y="8459640"/>
            <a:ext cx="914400" cy="13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818352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hort Hand"/>
              </a:rPr>
              <a:t>Domma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733920" y="8459640"/>
            <a:ext cx="914400" cy="13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733920" y="8183520"/>
            <a:ext cx="914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hort Hand"/>
              </a:rPr>
              <a:t>Compét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495680" y="8459640"/>
            <a:ext cx="914400" cy="13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95680" y="8183520"/>
            <a:ext cx="914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hort Hand"/>
              </a:rPr>
              <a:t>Coups/r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257800" y="8459640"/>
            <a:ext cx="914400" cy="13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257800" y="818352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hort Hand"/>
              </a:rPr>
              <a:t>Porté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19920" y="8459640"/>
            <a:ext cx="914400" cy="13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19920" y="818352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hort Hand"/>
              </a:rPr>
              <a:t>Muni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09680" y="8459640"/>
            <a:ext cx="914400" cy="13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09680" y="818352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hort Hand"/>
              </a:rPr>
              <a:t>Empa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818352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hort Hand"/>
              </a:rPr>
              <a:t>Ar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90920" y="4267080"/>
            <a:ext cx="14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Portra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6858000" cy="9906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-7632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Zombie"/>
              </a:rPr>
              <a:t>THE RETURN OF THE NOT TOTALLY D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33520"/>
            <a:ext cx="373392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Short Hand"/>
              </a:rPr>
              <a:t>HISTORIQUE DU PERSONN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533520"/>
            <a:ext cx="3733920" cy="2743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320" y="1066680"/>
            <a:ext cx="358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6320" y="1295280"/>
            <a:ext cx="358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6320" y="1523880"/>
            <a:ext cx="358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320" y="1752480"/>
            <a:ext cx="358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320" y="1981080"/>
            <a:ext cx="358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320" y="2209680"/>
            <a:ext cx="358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320" y="2438280"/>
            <a:ext cx="358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320" y="2666880"/>
            <a:ext cx="358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320" y="2895480"/>
            <a:ext cx="358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320" y="3124080"/>
            <a:ext cx="358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733920" y="533520"/>
            <a:ext cx="312408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Short Hand"/>
              </a:rPr>
              <a:t>EQUIPEMENT SUPPLEMENTA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733920" y="533520"/>
            <a:ext cx="3124080" cy="2743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733920" y="533520"/>
            <a:ext cx="0" cy="3045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0666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9880" y="12952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09880" y="15238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09880" y="17524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19810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9880" y="22096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9880" y="24382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09880" y="26668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09880" y="28954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09880" y="31240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3276720"/>
            <a:ext cx="373392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Short Hand"/>
              </a:rPr>
              <a:t>CONNAISSANCES OCCUL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3276720"/>
            <a:ext cx="3733920" cy="3429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6320" y="38098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733920" y="3276720"/>
            <a:ext cx="3124080" cy="3429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733920" y="3276720"/>
            <a:ext cx="312408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Short Hand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733920" y="3276720"/>
            <a:ext cx="0" cy="3045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09880" y="38098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09880" y="40384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9880" y="42670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9880" y="44956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9880" y="47242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09880" y="49528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09880" y="51814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09880" y="54100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81080" y="38098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6320" y="40384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81080" y="40384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6320" y="42670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981080" y="42670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6320" y="44956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981080" y="44956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320" y="4724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81080" y="47242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6320" y="49528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981080" y="49528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6320" y="51814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981080" y="51814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6320" y="54100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981080" y="54100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320" y="56386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981080" y="56386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81080" y="58672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320" y="60958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81080" y="60958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6320" y="63244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981080" y="63244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6320" y="65530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981080" y="65530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09880" y="56386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09880" y="58672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9880" y="60958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09880" y="63244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09880" y="65530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6320" y="6781680"/>
            <a:ext cx="6705360" cy="304812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10:23:02Z</dcterms:created>
  <dc:creator>JeePee</dc:creator>
  <dc:description/>
  <dc:language>en-US</dc:language>
  <cp:lastModifiedBy>JeePee</cp:lastModifiedBy>
  <cp:lastPrinted>2001-07-21T13:16:43Z</cp:lastPrinted>
  <dcterms:modified xsi:type="dcterms:W3CDTF">2001-07-21T13:17:14Z</dcterms:modified>
  <cp:revision>29</cp:revision>
  <dc:subject/>
  <dc:title>Aucun titre de diapositive</dc:title>
</cp:coreProperties>
</file>