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0FA-24EF-4558-B492-23F37E9E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B5E-E63D-47D2-831A-14042B31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5B5-B8CF-40A6-AAA2-F50461BE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EDA-61C0-45E5-9FCE-C8399009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646-D779-4243-B988-6DDF34A1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F5F-2EE2-47E7-9D34-7938EEEF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E4D-A8DD-4231-8AAD-10F37262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729-9E8C-4B5A-9CFA-12DF3CAC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9BC-9484-4A0F-8843-9A30DCD0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4E9-ADC9-4546-B3A3-2E260DBE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7C3-A9BC-497B-B9DD-38A40F08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485-24C9-4B10-BA2D-054719A0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CA6B-5104-42CF-A83C-5D1EE48FC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tacombe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960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632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000000"/>
                </a:solidFill>
                <a:latin typeface="GoudyMedieval"/>
              </a:rPr>
              <a:t>VAMPI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609480"/>
            <a:ext cx="347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oudyMedieval"/>
              </a:rPr>
              <a:t>L’AGE DES TENE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44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N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40" y="117324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Joueu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440" y="140184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hroni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0048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00480" y="117324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Attit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00480" y="140184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ncep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0160" y="9446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10160" y="11732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Géné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0160" y="140184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efu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666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oudyMedieval"/>
              </a:rPr>
              <a:t>ATTRIB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440" y="213372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23623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Dextér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440" y="259092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Vigu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00480" y="213372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har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00480" y="23623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59092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ppa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10160" y="21337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10160" y="23623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10160" y="259092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st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24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Phy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2892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38600" y="19051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133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186696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86696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84796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oudyMedieval"/>
              </a:rPr>
              <a:t>CAPAC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440" y="330660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thlé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440" y="353520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aga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440" y="37638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mé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00480" y="3306600"/>
            <a:ext cx="10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nim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00480" y="35352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rch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00480" y="3763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Artisa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10160" y="33066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Dro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0160" y="35352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ru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10160" y="37638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vest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924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Tal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2892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mpé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8600" y="30780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nnaiss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763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535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306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440" y="422100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mpat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440" y="444960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squ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440" y="399240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mmand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440" y="46782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tim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440" y="49068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Larc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440" y="536400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Vigi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992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4221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4496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46782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4906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5135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53640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00480" y="39924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qui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0480" y="42210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Etiqu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0480" y="44496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Furtiv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0480" y="46782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Herborist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0480" y="49068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êl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00480" y="51354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us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00480" y="5364000"/>
            <a:ext cx="11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ur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39924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Linguis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10160" y="42210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éde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10160" y="44496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Occultis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10160" y="46782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Poli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10160" y="490680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agesse popul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10160" y="51354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10160" y="536400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énéc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562932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GoudyMedieval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440" y="60958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611496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Conscience/Conv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24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2892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38600" y="58672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Ver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6095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6095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324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440" y="6324480"/>
            <a:ext cx="1257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440" y="65530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6553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440" y="67816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440" y="70102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6781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7010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00480" y="63244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6324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00480" y="60958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00480" y="65530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095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6553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00480" y="678168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00480" y="70102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6781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7010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7010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˜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657216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Times New Roman"/>
              </a:rPr>
              <a:t>Maîtrise de Soi/Instin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10160" y="701028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24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Autres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2892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Vo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00480" y="7696080"/>
            <a:ext cx="209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™™™™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00480" y="8153280"/>
            <a:ext cx="20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Volo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83818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™™™™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00480" y="8839080"/>
            <a:ext cx="20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Réserve de S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9067680"/>
            <a:ext cx="20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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10160" y="78487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Cont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10160" y="80773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légè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10160" y="830592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mo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8763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8534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8305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8991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9220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10160" y="85345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lessure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10160" y="87631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Handi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38600" y="749772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San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10160" y="89917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firm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10160" y="92203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Invalid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8077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7848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8077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8305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8534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8763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8991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440" y="513540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Subterf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30481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0481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5829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8294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746748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440" y="76960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7696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7924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440" y="7924680"/>
            <a:ext cx="1257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440" y="81532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8153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440" y="83818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440" y="861048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8381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86104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™™™™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9240" y="88390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Times New Roman"/>
              </a:rPr>
              <a:t>Combat (ar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440" y="9021600"/>
            <a:ext cx="22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440" y="9250200"/>
            <a:ext cx="22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440" y="9478800"/>
            <a:ext cx="22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5:56:02Z</dcterms:created>
  <dc:creator>Jean-Pierre Lheureux</dc:creator>
  <dc:description/>
  <dc:language>en-US</dc:language>
  <cp:lastModifiedBy>Jean-Pierre Lheureux</cp:lastModifiedBy>
  <dcterms:modified xsi:type="dcterms:W3CDTF">2003-03-26T08:16:32Z</dcterms:modified>
  <cp:revision>10</cp:revision>
  <dc:subject/>
  <dc:title>PowerPoint Presentation</dc:title>
</cp:coreProperties>
</file>