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9D4-D2D9-428F-930B-D4EBF031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07C-6A92-444F-B084-018E44AC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FDB-D244-4C08-AD92-AB1E0A7A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65E-504F-49E4-BA94-64B7F704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67B-F9D5-4216-B274-ED379BF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AB3-F464-4153-A994-DE172C9C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189-CEA5-486C-829F-3A4A9BDF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4B8-69B2-492F-897C-A63AB8BA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354-0A59-4A57-A379-D590F29B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379-E75C-4FAE-A0FB-DF96B3E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D93-1164-452C-B235-C5E0FFA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FDB-6BEE-4E65-AEB0-5C36A06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49F-4F47-4DAE-94EA-6FD4BA3F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448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960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9240" y="-122400"/>
            <a:ext cx="8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200" spc="-1" strike="noStrike">
                <a:solidFill>
                  <a:srgbClr val="000000"/>
                </a:solidFill>
                <a:latin typeface="Abaddon™"/>
              </a:rPr>
              <a:t>V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43440" y="-122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200" spc="-1" strike="noStrike">
                <a:solidFill>
                  <a:srgbClr val="000000"/>
                </a:solidFill>
                <a:latin typeface="Abaddon™"/>
              </a:rPr>
              <a:t>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19240" y="623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LA MASCA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4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440" y="11732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Joueu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440" y="140184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hroni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0048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0480" y="117324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ttit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00480" y="140184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1016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0160" y="11732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Géné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10160" y="14018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fu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65744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ATTRIB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23623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exté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25909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u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0048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har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362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0480" y="259092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ppa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0160" y="21337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10160" y="2362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10160" y="25909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st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24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2892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860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335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CAPAC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440" y="330660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thlé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440" y="353520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aga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440" y="3763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mmand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00480" y="330660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nim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0480" y="3535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tisa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00480" y="3763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mes à f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10160" y="3306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ro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0160" y="3535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ru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0160" y="37638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in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24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Tal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2892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mpé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3860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440" y="42210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mpat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440" y="44496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squ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440" y="399240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n. de la 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46782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440" y="4906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im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440" y="53640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i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0480" y="3992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d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00480" y="4221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tiqu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0480" y="44496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urtiv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46782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êl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0480" y="4906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Repré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5135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00480" y="5364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r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3992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for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4221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10160" y="4449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Linguis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0160" y="4678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éde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0160" y="49068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Occu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5135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0160" y="5364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6196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baddon™"/>
              </a:rPr>
              <a:t>A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440" y="60958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6114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Conscience/Conv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24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892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3860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er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6095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440" y="6324480"/>
            <a:ext cx="125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44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440" y="67816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440" y="70102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00480" y="63244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00480" y="60958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048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00480" y="678168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0048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70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657216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Maîtrise de Soi/Instin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016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24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touts &amp; Handi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440" y="76960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440" y="7924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440" y="81532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440" y="83818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440" y="8610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440" y="88390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440" y="9067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92962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2892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Humanité / Vo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00480" y="7696080"/>
            <a:ext cx="209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0480" y="81532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olo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83818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0480" y="88390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éserve de S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90676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10160" y="7848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t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0160" y="8077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lég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83059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mo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9220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10160" y="8534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0160" y="87631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3860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10160" y="8991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firm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10160" y="9220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alid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7848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440" y="513540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bterf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186696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86696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11480" y="3048120"/>
            <a:ext cx="246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048120"/>
            <a:ext cx="246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65480" y="5829480"/>
            <a:ext cx="24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829480"/>
            <a:ext cx="241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74674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33680" y="763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baddon™"/>
              </a:rPr>
              <a:t>AMP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7:44:49Z</dcterms:created>
  <dc:creator>Jean-Pierre Lheureux</dc:creator>
  <dc:description/>
  <dc:language>en-US</dc:language>
  <cp:lastModifiedBy>Jean-Pierre Lheureux</cp:lastModifiedBy>
  <dcterms:modified xsi:type="dcterms:W3CDTF">2003-03-21T16:18:16Z</dcterms:modified>
  <cp:revision>49</cp:revision>
  <dc:subject/>
  <dc:title>PowerPoint Presentation</dc:title>
</cp:coreProperties>
</file>