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660-1DC5-44D2-81EA-E6E96D2E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471-15A9-4945-BC82-C81F33DE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907-F2A6-4474-B214-FD93A8DD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4AA-8C08-4D1A-BDA9-4E7B3D8F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E50-E2AB-4BCA-B591-C315B34E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E72-ABAD-4371-A7C0-B2549249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62A-2036-48BC-AFC3-CA519F65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3F0-4C05-42BD-BC00-32741ADF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722-5415-4621-8E00-13537CE9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74A-F7DF-45A8-A60B-C78AF1B2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0D6-B899-40D5-B511-11D16D0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5FC-D3D0-4AF9-9D43-DAEF67A9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A2D3-886E-4C06-B3B0-1DC14A74B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590920"/>
            <a:ext cx="26668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33920" y="533520"/>
            <a:ext cx="3124080" cy="205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2680"/>
            <a:ext cx="24382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POINTS D ’ENER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-61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ombie"/>
              </a:rPr>
              <a:t>THE RETURN OF THE NOT TOTALLY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37339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CARACTERISTIQUES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3520"/>
            <a:ext cx="373392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9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325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4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P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86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109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T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325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Id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5541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8683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325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1554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782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hort Hand"/>
              </a:rPr>
              <a:t>Bonus aux dom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133720"/>
            <a:ext cx="24382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hort Hand"/>
              </a:rPr>
              <a:t>POINTS DE V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219320"/>
            <a:ext cx="175284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43828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657600"/>
            <a:ext cx="380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33520"/>
            <a:ext cx="3124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DESCRIPTION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683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N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066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09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09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ex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1523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1325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Lieu de naiss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752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981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554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Race / ethni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178272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Diplôme(s) / Stat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2438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2239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rof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COMPETENCES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952880"/>
            <a:ext cx="198108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Art/Artisanat(0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Athlétisme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Bibliothèque (2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Bricolag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ascad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hercher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ommerc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omptabilité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onduire (20%)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onnais. de la ru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Culture général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Déguisement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Discrétion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4952880"/>
            <a:ext cx="198108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Droit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Equitation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Esquiver (2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Histoire/géographi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Informatiqu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Langue natale (8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Langue étrangè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Leadership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Médecine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Navigation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Orientation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aranormal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198108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ersuasion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iloter (00%)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longée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remiers soins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Renseignements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abotage (0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agacité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ciences appliquées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ciences pures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ciences sociales (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errurerie (1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Survie (1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Vigilanc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952880"/>
            <a:ext cx="60948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952880"/>
            <a:ext cx="60948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4952880"/>
            <a:ext cx="60948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648320"/>
            <a:ext cx="6858000" cy="327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9528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95288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924680"/>
            <a:ext cx="6858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COMBAT &amp; ARM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08080" y="8459640"/>
            <a:ext cx="195336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Arts martiaux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Bagarre (5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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. . . . . . . . . . . . . . . . . .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924680"/>
            <a:ext cx="6858000" cy="1981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12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3352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581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809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038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4267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495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81835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Compé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Dom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81835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Compét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81835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Coups/r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Porté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Muni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8459640"/>
            <a:ext cx="9144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Emp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8183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hort Hand"/>
              </a:rPr>
              <a:t>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hort Hand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-763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ombie"/>
              </a:rPr>
              <a:t>THE RETURN OF THE NOT TOTALLY D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33520"/>
            <a:ext cx="37339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HISTORIQUE DU PERSONN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33520"/>
            <a:ext cx="373392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0" y="10666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1295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1523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17524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1981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22096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24382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2666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28954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31240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533520"/>
            <a:ext cx="3124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EQUIPEMENT SUPPLEMENT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533520"/>
            <a:ext cx="312408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5335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066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295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1523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1752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981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3124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76720"/>
            <a:ext cx="37339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CONNAISSANCES OCCUL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76720"/>
            <a:ext cx="3733920" cy="342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3276720"/>
            <a:ext cx="3124080" cy="342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276720"/>
            <a:ext cx="3124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hort Hand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276720"/>
            <a:ext cx="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3809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038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4267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4724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4952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4038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4267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4267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4495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4495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4724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4952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320" y="5181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5181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5410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5638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5867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6095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6095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6324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6324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6553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6553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9880" y="5638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5867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6095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6324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6553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320" y="6781680"/>
            <a:ext cx="6705360" cy="304812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10:23:02Z</dcterms:created>
  <dc:creator>JeePee</dc:creator>
  <dc:description/>
  <dc:language>en-US</dc:language>
  <cp:lastModifiedBy>JeePee</cp:lastModifiedBy>
  <cp:lastPrinted>2001-07-21T13:16:43Z</cp:lastPrinted>
  <dcterms:modified xsi:type="dcterms:W3CDTF">2001-07-21T13:17:14Z</dcterms:modified>
  <cp:revision>29</cp:revision>
  <dc:subject/>
  <dc:title>Aucun titre de diapositive</dc:title>
</cp:coreProperties>
</file>